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2A0-A507-4614-BF72-6B56B20A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DF5-3BE9-4769-A1CC-9DA31F6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A5D-1CC0-43D9-A510-5396831C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318-FDD6-4E54-BBB3-10073CBB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C74-90E2-4481-81EC-26139DE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CF4-E358-4CB9-B9CA-8E9E7DB1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F01-EC03-4811-ABCA-2631037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15B-12A1-422C-8C60-9FA6413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711-9E5C-497C-8F5F-E715C0B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C9D-14E0-4FC4-8805-B4308B6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5B6-954E-4DC6-80CE-06849B5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8F0-036C-4F8F-BBE5-5E5C41F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394-EB1B-4AEB-971F-B82B1C7E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825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ppend when a molecule is loaded. MoPro cas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080" y="816120"/>
            <a:ext cx="4170600" cy="7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::LoadMoPro(filename, from_foolbar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f a molecule already exists 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terface::unloadMol(from_toolbar?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ecule::readmopro(filena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::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60720" y="981000"/>
            <a:ext cx="273636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::ReadMoPro(file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s all molecule 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s pointer to molecule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9320" y="1955880"/>
            <a:ext cx="320832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::UnloadMol(from_foolbar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maps, clippers, 2dr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loads 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 previous mol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 tool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 summary 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olIsUnload(from_toolbar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5360" y="3068640"/>
            <a:ext cx="576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67560" y="2770200"/>
            <a:ext cx="326844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f ( ! from_toolbar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m3d::reset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_toolba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f ( ! from_toolbar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m2d::reset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_toolba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er :: unloadMol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_toolbar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600" y="2692440"/>
            <a:ext cx="2801880" cy="7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::update(from_foolbar?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s 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s summary 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leIsLoad(mol, from_toolbar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84280" y="13082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4842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39760" y="147312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8400" y="1152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89680" y="3740040"/>
            <a:ext cx="3397680" cy="2462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er::updateViewer(mol, from_toolbar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60840" y="3346560"/>
            <a:ext cx="0" cy="358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335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51080" y="4292640"/>
            <a:ext cx="3949560" cy="152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er::updateViewer(mol, from_toolbar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s viewer molecule to m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nb at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selection object molec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s vertex arrays for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color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f ( ! from_toolba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ts camera to molec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unit cell D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f ( ! from_toolba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MolLoadOK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53920" y="3584520"/>
            <a:ext cx="3294360" cy="7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er::unloadMol(from_toolbar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t DL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xcept 2d 3d maps if from_tool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 viewer at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s openGL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93200" y="3201840"/>
            <a:ext cx="0" cy="358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9800" y="3201840"/>
            <a:ext cx="19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867120"/>
            <a:ext cx="0" cy="358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00440" y="3878280"/>
            <a:ext cx="19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1000" y="5516640"/>
            <a:ext cx="231876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2d::makeAtomLis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3d::makeAtomLis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680" y="5694480"/>
            <a:ext cx="1368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2400" y="11685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8:18:43Z</dcterms:created>
  <dc:creator>Datura</dc:creator>
  <dc:description/>
  <dc:language>en-US</dc:language>
  <cp:lastModifiedBy>Datura</cp:lastModifiedBy>
  <dcterms:modified xsi:type="dcterms:W3CDTF">2010-12-11T10:14:25Z</dcterms:modified>
  <cp:revision>7</cp:revision>
  <dc:subject/>
  <dc:title>Diapositive 1</dc:title>
</cp:coreProperties>
</file>